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691C-7C18-4735-AEAF-ACC256203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48D7-184C-443B-9BB6-7F47F07A9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24A9-CBF6-4823-AB01-DB60EE3A1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501-BC2F-4DD1-8EEC-B3061F73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4B1-9F89-428A-B33D-1825A120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285-6A07-4F11-996E-5963A52C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AC9-A429-475F-9DF6-CFBDA741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0E38-E29F-47E2-826C-8F2BC156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68C-6DD7-4D03-8E6D-0E35BEFC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6EB-7AA1-4572-B8A3-3134EEE3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381-EF63-421B-8144-2F0E7041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5E11-8D6E-43DA-A38D-49BFFC45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9BD-571C-4842-AD27-0C621000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698-F9F9-402C-8F95-9C069122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93D-7425-4C90-8A89-101636CC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8B89-164F-49F4-BCD4-02E29328F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jectory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78D4-771C-444B-944F-B566B0C92D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celeration profile for 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ddot=-180+360*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ddot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’Acceleration(deg/s2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1446120" y="2681280"/>
                <a:ext cx="17146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Picture 6" descr="untitled"/>
          <p:cNvPicPr/>
          <p:nvPr/>
        </p:nvPicPr>
        <p:blipFill>
          <a:blip r:embed="rId1"/>
          <a:stretch/>
        </p:blipFill>
        <p:spPr>
          <a:xfrm>
            <a:off x="4038480" y="2666880"/>
            <a:ext cx="4529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HW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 single link robot with a rotary joint is at </a:t>
            </a:r>
            <a:r>
              <a:rPr b="1" i="1" lang="az-Cyrl-AZ" sz="28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1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ْ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grees. It is desired to move the joint in a smooth manner to </a:t>
            </a:r>
            <a:r>
              <a:rPr b="1" i="1" lang="az-Cyrl-AZ" sz="28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7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ْ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3 sec. Find the coefficeints of a cubic to bring the manipulator to rest at the go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86000" y="3962520"/>
                <a:ext cx="3200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617400" y="4724280"/>
                <a:ext cx="6891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deg/sec,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sk is to take the end point of the RR robot from (0.5, 0.0, 0.0) to (0.5, 0.3, 0.0) in the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me in a period of 5 seconds.  Assume the robot is at rest at the starting point and should come to come to a complete stop at the final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Given the 6 constraints: (n=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990720" y="2362320"/>
                <a:ext cx="6629400" cy="25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eqAr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start time      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end time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initial position , velocity and acceleration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final position , velocity and accelera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Quintic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6 coefficients (6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fine the trajectory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q(t)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o be a polynomial of degree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2286000" y="3583080"/>
                <a:ext cx="32004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1994040" y="4724280"/>
                <a:ext cx="3708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2033640" y="5638680"/>
                <a:ext cx="3352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autation of th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eff to satify the const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0"/>
              <p:cNvSpPr txBox="1"/>
              <p:nvPr/>
            </p:nvSpPr>
            <p:spPr>
              <a:xfrm>
                <a:off x="1143000" y="2743200"/>
                <a:ext cx="4419720" cy="28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six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914400" y="2209680"/>
                <a:ext cx="6524640" cy="39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5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six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779400" y="2435400"/>
                <a:ext cx="6794640" cy="34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Linear segments with parabolic b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 want the middle part of the trajectory to have a constant velocity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mp up to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seg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mp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untitled"/>
          <p:cNvPicPr/>
          <p:nvPr/>
        </p:nvPicPr>
        <p:blipFill>
          <a:blip r:embed="rId1"/>
          <a:stretch/>
        </p:blipFill>
        <p:spPr>
          <a:xfrm>
            <a:off x="3962520" y="2819520"/>
            <a:ext cx="48196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jectory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rajectory is a function of tim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) s.t. 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=q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nd 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=q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: time taken to execute the traje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int to point motion: plan 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jectory from the initial configurati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final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In some cases, there may be constraints (for example: if the robot must begin and end with zero veloc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e the trajectory of polynomial of degre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if you hav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nstra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 (1):Given the 4 constraints: (n=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295280" y="3657600"/>
                <a:ext cx="472464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eqAr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start time      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end time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the initial position and velocity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final position and velocit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Cubic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 coefficients (4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fine the trajectory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q(t)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o be a polynomial of degree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2286000" y="3505320"/>
                <a:ext cx="3200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7"/>
              <p:cNvSpPr txBox="1"/>
              <p:nvPr/>
            </p:nvSpPr>
            <p:spPr>
              <a:xfrm>
                <a:off x="2317680" y="4952880"/>
                <a:ext cx="23734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uation of th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eff to satify the const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2895480" y="2133720"/>
                <a:ext cx="18288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1157400" y="4800600"/>
                <a:ext cx="51116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2057400" y="4114800"/>
                <a:ext cx="25909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1"/>
              <p:cNvSpPr txBox="1"/>
              <p:nvPr/>
            </p:nvSpPr>
            <p:spPr>
              <a:xfrm>
                <a:off x="1295280" y="2743200"/>
                <a:ext cx="490068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four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1219320" y="2819520"/>
                <a:ext cx="4510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3</m:t>
                              </m:r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3</m:t>
                              </m:r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990720" y="3200400"/>
                <a:ext cx="172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533520" y="2286000"/>
                <a:ext cx="7059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deg/sec,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3962520" y="3200400"/>
                <a:ext cx="18288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7"/>
              <p:cNvSpPr txBox="1"/>
              <p:nvPr/>
            </p:nvSpPr>
            <p:spPr>
              <a:xfrm>
                <a:off x="914400" y="4343400"/>
                <a:ext cx="2158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1143000" y="4876920"/>
                <a:ext cx="31575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=10-90*t^2+60*t^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'Angle(deg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1447920" y="2362320"/>
                <a:ext cx="20574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0" name="Picture 5" descr="untitled"/>
          <p:cNvPicPr/>
          <p:nvPr/>
        </p:nvPicPr>
        <p:blipFill>
          <a:blip r:embed="rId1"/>
          <a:stretch/>
        </p:blipFill>
        <p:spPr>
          <a:xfrm>
            <a:off x="4038480" y="2666880"/>
            <a:ext cx="45435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elocity profile for 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dot=-180*t+180*t^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dot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’velocity(deg/s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1527120" y="2362320"/>
                <a:ext cx="1898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4" name="Picture 8" descr="untitled"/>
          <p:cNvPicPr/>
          <p:nvPr/>
        </p:nvPicPr>
        <p:blipFill>
          <a:blip r:embed="rId1"/>
          <a:stretch/>
        </p:blipFill>
        <p:spPr>
          <a:xfrm>
            <a:off x="3962520" y="2666880"/>
            <a:ext cx="45576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yssam</cp:lastModifiedBy>
  <dcterms:modified xsi:type="dcterms:W3CDTF">2008-04-13T00:17:2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